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A830-F5C4-4E93-9E93-BE0B9189E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noun-antecedent agreement (or should I say “disagreement”) is a pet peeve of mine. I can’t help myself: when I see it, I want to mark it, and I see it a lot on most freshmen’s papers.  My purpose here is to explain the error to you so that you can attempt to identify it and eliminate it from your own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8EC-4102-43CD-A7DD-63F5A2B6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EA0-750D-4A79-99ED-4E110740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A12-E2C8-47EC-90DA-B7A78A3C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2E0-5C97-4DE4-9A02-37D85BC1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7900-53D0-4F04-ADB4-1057DBDA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1CEE-313B-4037-8EEA-3403D6F1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B21B-C2A6-4C39-B0B4-F6E2DAF8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0DC9-3486-4E81-845D-81725293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1E9A-305B-4DDF-A728-27E57A34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8BC9-A31A-45DF-A502-A2065CF7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C2A3-2FF5-4BE4-9E27-1181D84B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7A0-8804-41D9-835B-D87D02D1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EA3C-835A-4C6B-BF01-25053916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E4C1-0E90-4C2B-A1F8-676E8E37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4788-7444-40B8-B6C5-8F22EC31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038E-EFFE-4108-BEC3-7BFEB5F9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0AC7-316D-49C8-B578-28A72766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3240-59A8-415F-9C99-EC2646FA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29D-D9F9-45B9-B429-BBE3B5B7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0DF-ACC1-44F2-B369-9584B782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163-11C9-471D-B480-B6F6CD6E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83E-B62D-4511-915C-51C289A7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35A-1402-47CF-9292-71A84EDC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4A9-0D71-432B-A7A6-EFCCA3AA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704D-0A75-41F6-9AAA-207F76A4A19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41C3-E5F1-4120-B7F1-918E3BB9A02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owlet.letu.edu/grammarlinks/pronouns/pronoun1.html" TargetMode="External"/><Relationship Id="rId2" Type="http://schemas.openxmlformats.org/officeDocument/2006/relationships/hyperlink" Target="http://wwwnew.towson.edu/ows/exercisep-aagr.htm" TargetMode="External"/><Relationship Id="rId3" Type="http://schemas.openxmlformats.org/officeDocument/2006/relationships/hyperlink" Target="http://www.chompchomp.com/hotpotatoes/proagree03.htm" TargetMode="External"/><Relationship Id="rId4" Type="http://schemas.openxmlformats.org/officeDocument/2006/relationships/hyperlink" Target="http://www.odessa.edu/dept/english/dsmith/pronounantecdent.rtf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odessa.edu/dept/english/dsmith/sopronouns.AVI" TargetMode="External"/><Relationship Id="rId5" Type="http://schemas.openxmlformats.org/officeDocument/2006/relationships/hyperlink" Target="http://www.odessa.edu/dept/english/dsmith/schoolhouserockpronouns.AVI" TargetMode="External"/><Relationship Id="rId6" Type="http://schemas.openxmlformats.org/officeDocument/2006/relationships/hyperlink" Target="http://www.odessa.edu/dept/english/dsmith/Pronouns.AVI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odessa.edu/dept/english/dsmith/disagreement.AVI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noun-Antecedent Agreemen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’ll generally run into problems in two cas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the antecedent is 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definite pronou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the antecedent i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ingular noun that could refer to a man or a wo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efinite Pronouns: They’re usually singu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1828800"/>
          <a:ext cx="7696080" cy="366084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y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y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very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very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i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80880" y="5410080"/>
            <a:ext cx="3808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cept when they’re plur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5800" y="1828800"/>
          <a:ext cx="7695720" cy="3657600"/>
        </p:xfrm>
        <a:graphic>
          <a:graphicData uri="http://schemas.openxmlformats.org/drawingml/2006/table">
            <a:tbl>
              <a:tblPr/>
              <a:tblGrid>
                <a:gridCol w="2565360"/>
                <a:gridCol w="2565000"/>
                <a:gridCol w="256536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th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v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5334120"/>
            <a:ext cx="1981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when they’re singular or plural, depending on contex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1828800"/>
          <a:ext cx="7696080" cy="46641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22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gas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go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kids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go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“All” refers to “gas” in the first sentence and “kids” in the second)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y</a:t>
                      </a:r>
                      <a:br>
                        <a:rPr sz="2800"/>
                      </a:b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n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jewelry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yours for the tak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n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my cousins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right for the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“Any” refers to “jewelry” in the first sentence and “cousins” in the secon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plot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revealed in act thre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our plans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going towards breaking him out of jai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“More” refers to “plot” in the first sentence and “plans” in the second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Mo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cake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wa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gone when I got hom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mo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cookies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we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still the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“Most” refers to “cake” in the first sentence and “cookies” in the secon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No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material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wa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overed in the test review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No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students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we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happy about tha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“None” refers to “material in the first sentence and “students” in the secon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So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fault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wa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he teacher’s for being disorganiz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So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students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we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so angry they complained to her bo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“Some” refers to “fault” in the first sentence and “students” in the secon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exploding" descr="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715000" y="0"/>
            <a:ext cx="2362320" cy="1905120"/>
          </a:xfrm>
          <a:prstGeom prst="wedgeRoundRectCallout">
            <a:avLst>
              <a:gd name="adj1" fmla="val -57125"/>
              <a:gd name="adj2" fmla="val 82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rgh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ingular Nouns that Can Refer to a Man or a Woman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ers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uld be able to make up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wn mind about prayer in schoo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ach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uld show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udents love and compass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ten,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o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ill leav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tients waiting for a ridiculously long ti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wrong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4766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ly, these errors occu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cause the writer is trying to avoid sexis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don’t know if the antecedent is male or female, it seems logical to use the pronoun “they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bunnies_sexism" descr=""/>
          <p:cNvPicPr/>
          <p:nvPr/>
        </p:nvPicPr>
        <p:blipFill>
          <a:blip r:embed="rId1"/>
          <a:stretch/>
        </p:blipFill>
        <p:spPr>
          <a:xfrm>
            <a:off x="1365120" y="2438280"/>
            <a:ext cx="2186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can, just make the antecedent plur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hould be able to make up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wn mind about prayer in schools (incorrect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hould be able to make up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wn mind about prayer in schools (correct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ach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hould show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udents love and compassion (incorrect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each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hould show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udents love and compassion (correct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ten,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c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leav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tients waiting for a ridiculously long time (incorrect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ten,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octo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ll leav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tients waiting for a ridiculously long time (correct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neral Pronoun-Antecedent Agreement Ru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 antecedents are usually plural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ey and Melissa think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kids are brillia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wo antecedents are joined by either/or, neither/nor, the pronoun agrees with the antecedent closest to i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ither Michael or his friends will bring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i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deo games to the party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ither his friends or Michael will bring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i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video games to the party. (This sentence is correct, but sounds illogical.  Word the sentence like the first example rather than the second)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noun agrees with the antecedent, not the object of the prepositional phrase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ac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dogs needs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wn cra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neral Pronoun-Antecedent Agreement Ru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ctive noun can be either singular or plural, depending on the contex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jur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ok only two hours to reach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erdict. (Emphasizes the singularity of the jur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jur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ok only two hours to reach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i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erdict. (Emphasizes the jury as a group of individual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sexis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“A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oct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hould listen carefully to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tients.”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rather (1) making the pronoun and its antecedent plural, or (2) reword the sente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ctors should listen carefully to their pati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ctors should listen carefully to pati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 you need to understand about pronoun-antecedent agreement error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a pronou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an anteced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a pronoun-antecedent agreement erro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gue Pronoun Refer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"Mom wasn't sure if Jane had her make-up,"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unclear if "her" refers to Mom or Jane. Whose make up is it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m wasn’t sure if Jane had brought Mom’s make up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m wasn’t sure if Jane had brought Jane’s make up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"Had Jane brought her make up?" Mom wonder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m thought, "Has Jane brought my make up?"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Pronoun referen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: explains pronouns using a student’s different learning styl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Pronoun-Agreement Exerci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Pronoun-Agreement Exerci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Pronoun-Antecedent Rul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(RTF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a Pronou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ronoun is a word that takes the place of a noun or other pronou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can take the place of a subject wor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, you, he, she, it, we, the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can take the place of an object wor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, you him, her it, us, th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can take the place of a possessive wor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y, mine, your, yours, his, hers, its, our, ours, their, thei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like silly videos, here are a couple defining pronoun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sopronouns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2362320" cy="1761840"/>
          </a:xfrm>
          <a:prstGeom prst="rect">
            <a:avLst/>
          </a:prstGeom>
          <a:ln w="0">
            <a:noFill/>
          </a:ln>
        </p:spPr>
      </p:pic>
      <p:pic>
        <p:nvPicPr>
          <p:cNvPr id="166" name="schoolhouserock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2247840" cy="1904760"/>
          </a:xfrm>
          <a:prstGeom prst="rect">
            <a:avLst/>
          </a:prstGeom>
          <a:ln w="0">
            <a:noFill/>
          </a:ln>
        </p:spPr>
      </p:pic>
      <p:pic>
        <p:nvPicPr>
          <p:cNvPr id="167" name="us" descr=""/>
          <p:cNvPicPr/>
          <p:nvPr/>
        </p:nvPicPr>
        <p:blipFill>
          <a:blip r:embed="rId3"/>
          <a:stretch/>
        </p:blipFill>
        <p:spPr>
          <a:xfrm>
            <a:off x="3352680" y="4800600"/>
            <a:ext cx="1752840" cy="1308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43000" y="4191120"/>
            <a:ext cx="1981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Sopro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4191120"/>
            <a:ext cx="1981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Rufus Xavier Sarsapar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6324480"/>
            <a:ext cx="1981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an anteceden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 that the pronoun repla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rmione Granger threw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nd onto the flo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er”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names “Hermione Granger”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Ron Weasley saw the wand drop, he picke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p and handed it to h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t”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names the “wand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Ron and Hermione went t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fense Against the Dark Arts cla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ir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names “Ron and Hermione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 what is pronoun-antecedent disagreement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not this. .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nother silly video that you can skip if you want t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disagreement" descr=""/>
          <p:cNvPicPr/>
          <p:nvPr/>
        </p:nvPicPr>
        <p:blipFill>
          <a:blip r:embed="rId1"/>
          <a:stretch/>
        </p:blipFill>
        <p:spPr>
          <a:xfrm>
            <a:off x="4648320" y="2278080"/>
            <a:ext cx="3200400" cy="2389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48320" y="5257800"/>
            <a:ext cx="37335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Pronoun Dis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claimer: Strange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cally, it’s thi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pronouns and their antecedents need to agree in person and numb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ree in Pers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te to proofread my paper because proofreading is such a boring thing for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d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isagreement in person--first person antecedent 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, second person pronoun 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"Why shoul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udy literature?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n't get anything out of it"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isagreement in number—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houldn’t study it because 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 don’t get anything out of i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ree in Nu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gular antecedents get singular pronou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ssed hi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the 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ural antecedents get plural pronou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oy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ssed their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the 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2:46:22Z</dcterms:created>
  <dc:creator>ECISD</dc:creator>
  <dc:description/>
  <dc:language>en-US</dc:language>
  <cp:lastModifiedBy>Blackburn</cp:lastModifiedBy>
  <dcterms:modified xsi:type="dcterms:W3CDTF">2011-03-08T15:47:09Z</dcterms:modified>
  <cp:revision>12</cp:revision>
  <dc:subject/>
  <dc:title>Pronoun Antecedent Agreement</dc:title>
</cp:coreProperties>
</file>